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FE5-9AA3-4FBB-8522-41E05782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AA6-DF1F-4C0F-900F-D7B2486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9BD-AFF8-40C0-9786-C9446ACC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E643-B114-4C9B-B809-86F888D8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B409-D567-4DB4-83AE-365C4790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BA1-10EC-4B0D-8346-176FBB9C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D3B-6F8D-4AEE-9403-C00D67D6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E8C-D1AD-4270-B9F2-65D016B5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5D9-4103-4F2C-94E8-294C3243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69D5-24CB-42F5-B55E-7097E1E9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8BEC-01F0-41ED-990C-903D6AB4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20CE-C170-4F35-AD47-C5C0AC71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9F67-92E8-4B1B-A3F7-685E53A30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66"/>
                </a:solidFill>
                <a:latin typeface="Arial"/>
              </a:rPr>
              <a:t>*</a:t>
            </a: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REZOLVAREA  PROBLEMELOR PRIN METODA FIGURATIVĂ PRESUPUNE  REALIZAREA UNEI FIGURI </a:t>
            </a:r>
            <a:br>
              <a:rPr sz="2000"/>
            </a:b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*NUMERELE / MĂRIMILE  PREZENTE  IN  PROBLEMĂ  SE REPREZINTA GRAFIC  </a:t>
            </a:r>
            <a:br>
              <a:rPr sz="2000"/>
            </a:br>
            <a:r>
              <a:rPr b="0" lang="ro-RO" sz="2000" spc="-1" strike="noStrike">
                <a:solidFill>
                  <a:srgbClr val="cc0099"/>
                </a:solidFill>
                <a:latin typeface="Arial"/>
              </a:rPr>
              <a:t>*PENTRU  REZOLVARE  TREBUIE SĂ SE AIBĂ ÎN VEDERE OBŢINEREA DE PĂRŢI EGAL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REALIZARE : ÎNV. TĂTĂRĂSCU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ro-RO" sz="2400" spc="-1" strike="noStrike">
                <a:solidFill>
                  <a:srgbClr val="333399"/>
                </a:solidFill>
                <a:latin typeface="Arial"/>
              </a:rPr>
              <a:t>ŞCOALA NR. 3 ADJ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692280"/>
            <a:ext cx="5657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METODA FIGURATIV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( GRAFICĂ 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b)   Suma  a  două  numere  este 24 . Câtul  împărţirii 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numărului  mare  la  cel  mic  este 2 . Care  sunt  cele  două  nume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+ n = 24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                 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: n = 2 ;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= n x 2 ;      m                     24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, n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p + 2p =3(părţi egale cu n ; 3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24 : 3 = 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cc66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8 x 2 = 16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Vf.  16 + 8 = 24 ( m+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48360" y="4005360"/>
            <a:ext cx="1513080" cy="1753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4360" y="2852640"/>
            <a:ext cx="37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5164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51640" y="249228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51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51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5964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59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5672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4072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0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c</a:t>
            </a:r>
            <a:r>
              <a:rPr b="0" lang="ro-RO" sz="2000" spc="-1" strike="noStrike">
                <a:solidFill>
                  <a:srgbClr val="339933"/>
                </a:solidFill>
                <a:latin typeface="Arial"/>
              </a:rPr>
              <a:t>)      </a:t>
            </a: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Suma  a  două  numere  este 21. Câtul împărţirii primului număr  la  al  doilea  este 3, iar  restul 1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+ b = 21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: b = 3 rest 1 ; a = 3 x b + 5    a                         1        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a , b =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3p + 1p = 4 ( părţi ega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21 – 1 = 20 ( 4 x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3)   20 :  4 =   5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5 x 3 + 1 = 16 (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Vf.  16 + 5 = 21 ( a + b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565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76720" y="184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6720" y="22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1700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1700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436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02000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08720" y="213372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56720" y="170028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40720" y="170028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40720" y="2349360"/>
            <a:ext cx="21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2089080" cy="171288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3. a) Diferenţa a două numere este 16.Primul număr este de 3 ori mai mare decât al doilea . Care sunt numere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– n = 16 ;m=n + 16    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= n x 3                    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, n = ?                                          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3 p – 1p = 2( părţi egale cu n ; 2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) 16 : 2  =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99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8 x 3 = 24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Vf. 24 – 8 = 16 ( m –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776240" cy="1400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9640" y="2852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191628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9640" y="2565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219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2764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0108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23600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300720" y="299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0108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0072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9933"/>
                </a:solidFill>
                <a:latin typeface="Arial"/>
              </a:rPr>
              <a:t>b)   Diferenţa a două numere este 18. Câtul împărţirii numă rului mare la numărul mic este 3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– n = 18 ; m = n + 18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 : n =   3  ; m = n x 3   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m , n = ?                                       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3 p – 1 p = 2 ( părţi egale cu n ; n x 2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) 18 : 2 =   9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9 x 3 = 27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Vf.  27 – 9 = 18 ( m –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          </a:t>
            </a:r>
            <a:r>
              <a:rPr b="0" lang="ro-RO" sz="3200" spc="-1" strike="noStrike">
                <a:solidFill>
                  <a:srgbClr val="ff9900"/>
                </a:solidFill>
                <a:latin typeface="Arial"/>
              </a:rPr>
              <a:t>27  : 9 =   3 ( m :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6804000" y="4221000"/>
            <a:ext cx="1808280" cy="179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24360" y="19162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249228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24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72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96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72360" y="29242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9636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2781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c)</a:t>
            </a:r>
            <a:r>
              <a:rPr b="0" lang="ro-RO" sz="2000" spc="-1" strike="noStrike">
                <a:solidFill>
                  <a:srgbClr val="00cc00"/>
                </a:solidFill>
                <a:latin typeface="Arial"/>
              </a:rPr>
              <a:t>   </a:t>
            </a:r>
            <a:r>
              <a:rPr b="0" lang="ro-RO" sz="2000" spc="-1" strike="noStrike">
                <a:solidFill>
                  <a:srgbClr val="009999"/>
                </a:solidFill>
                <a:latin typeface="Arial"/>
              </a:rPr>
              <a:t>Câtul împărţirii a două  numere  este 4, iar  restul 3 . Primul număr  este  cu  18  mai  mare  decât  al  doilea . Care  sunt  numerel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 : n = 4 rest 3; m=nx4+3   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=n +18                               m                        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m , n = ?                                                  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) 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4p – 1p = 3 (părţi egal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18 – 3 = 15 ( 3 x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15 :  3 =   5 (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66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5 x 4 + 3 = 23 (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ro-RO" sz="2800" spc="-1" strike="noStrike">
                <a:solidFill>
                  <a:srgbClr val="cc6600"/>
                </a:solidFill>
                <a:latin typeface="Arial"/>
              </a:rPr>
              <a:t>Vf.  23 – 5 = 18 ( m – n )  sau : 23 : 5 = 4 rest 3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249228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1700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35640" y="220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43564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84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435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8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32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8036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44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4720" y="249228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4400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84720" y="2349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020000" y="3716280"/>
            <a:ext cx="142056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1. PROBLEME PROPUSE SPRE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a)   Gigel  are  20  de bile albe şi negre . Bile albe are cu 4 mai multe decât cele negre . Câte bile are de fiecare fel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b)   În livada bunicilor sunt 19 meri şi peri .  Peri sunt cu 5 mai puţini decât meri . Câţi pomi sunt din fiecare fel  în livadă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c)   Corina rezolvă în trei zile  21 de probleme . În   prima zi rezolvă  7 probleme, iar în a doua zi cu 4 mai multe decât în a treia zi . Câte probleme a rezolvat în  a doua şi a treia z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d)   O echipă de muncitori a săpat în trei zile 18 m de şanţ . În fiecare zi a săpat cu 2 m mai mult decât în ziua anterioară . Câţi metri de şanţ a săpat echipa în fiecare z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0" lang="ro-RO" sz="2000" spc="-1" strike="noStrike">
                <a:solidFill>
                  <a:srgbClr val="3399ff"/>
                </a:solidFill>
                <a:latin typeface="Arial"/>
              </a:rPr>
              <a:t>e)  În  trei lăzi sunt 24 kg de mere . În a doua ladă sunt cu 1 kg mai multe decât în prima ladă, iar în a treia  cu 1 kg mai multe decât în a doua ladă . Câte kilograme de mere sunt în fiecare ladă 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.  PROBLEME PROPUSE SPRE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cc00"/>
                </a:solidFill>
                <a:latin typeface="Arial"/>
              </a:rPr>
              <a:t>a)   </a:t>
            </a: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Pe două rafturi sunt 24 de cărţi. Pe primul raft sunt de 2 ori mai puţine decât pe al doilea . Câte cărţi sunt pe fiecare raf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b)    Alin şi Eugen au împreună 15 jucării . Eugen are de 2 ori mai multe decât Alin. Câte jucării are fiecare copi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cc00"/>
                </a:solidFill>
                <a:latin typeface="Arial"/>
              </a:rPr>
              <a:t>c)    Irina, Monica şi Simona i-au oferit mamei, de ziua ei, 25 de flori. De la Irina a primit 9 flori, iar de  la  Monica  de  3  ori mai  puţine decât de la Simona .Câte flori a primit mama  de  la  fiecare fată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3. PROBLEME PROPUSE  SPRE  REZOLVA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Mihai a citit o poveste în două zile .În prima 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a citit cu 15 pagini mai puţine decât în  a doua zi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A constatat că în prima zi citise de 4 ori mai puţ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pagini decât în  a  doua zi. Câte  pagini citise Mi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zilnic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339933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Monica avea 10 ani când s-a născut verişoru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său,Costel.Ştiind că Monica este de 3ori mai m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339933"/>
                </a:solidFill>
                <a:latin typeface="Arial"/>
              </a:rPr>
              <a:t>decât Costel, află câţi ani are fiecare copi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f3300"/>
                </a:solidFill>
                <a:latin typeface="Arial"/>
              </a:rPr>
              <a:t>TIPURI DE PROBLEM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) Aflarea numerelor atunci când se cunosc suma şi diferenţa lor ( a + b=x ; a - b = y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Arial"/>
              </a:rPr>
              <a:t>2) Aflarea numerelor atunci când se cunosc suma şi raportul lor (a + b= m ; a : b =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ff"/>
                </a:solidFill>
                <a:latin typeface="Arial"/>
              </a:rPr>
              <a:t>3) Aflarea numerelor atunci când se cunosc diferenţa şi raportul lor (a - b=r ; a :b =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1513080" cy="1435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1.</a:t>
            </a:r>
            <a:br>
              <a:rPr sz="2000"/>
            </a:b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a)  </a:t>
            </a:r>
            <a:r>
              <a:rPr b="0" lang="ro-RO" sz="2000" spc="-1" strike="noStrike">
                <a:solidFill>
                  <a:srgbClr val="333399"/>
                </a:solidFill>
                <a:latin typeface="Arial"/>
              </a:rPr>
              <a:t>Suma a două numere este 25 , iar diferenţa lor este 5 . Care sunt cele două nume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= 25                    b                         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– b =   5 (a =b +5 )    a                  5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5 – 5 = 20 ( 2 părţi egale cu b ; 2 x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0 :  2 = 10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0 + 5 =  15 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15 + 10 = 25 ( a+b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781360"/>
            <a:ext cx="36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32360" y="184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565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885080" y="1773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96360" y="177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96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00720" y="4581360"/>
            <a:ext cx="1814760" cy="1528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b) Suma a două numere este 19 . Primul număr este cu 3 mai mare decât al doilea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+ n = 19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= n +  3            m               3          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66ff"/>
                </a:solidFill>
                <a:latin typeface="Arial"/>
              </a:rPr>
              <a:t>m , n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9 – 3 = 16 ( 2 părţi egale cu n ; 2 x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16 : 2 =   8 (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00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 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8 + 3 = 11 ( m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66"/>
                </a:solidFill>
                <a:latin typeface="Arial"/>
              </a:rPr>
              <a:t>Vf.  11 + 8 = 19 ( m + 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278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19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7640" y="256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1773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24360" y="17733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4360" y="24192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00720" y="2421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36000" y="18446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20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184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1390680" cy="17668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ff"/>
                </a:solidFill>
                <a:latin typeface="Arial"/>
              </a:rPr>
              <a:t>c. Suma a trei numere este 25. Primul număr este cu 4 mai mare decât al doilea, iar al treilea cu 2 mai mare decât primul. Care sunt cele trei numer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m+n + r = 25         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m = n + 4               m                 4            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r = m + 2                 r                 4  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)  25 – ( 4 + 4 + 2 ) = 15 (3 părţi egale cu n; 3 x 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5 : 3 =  5 ( 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4 =  9 (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9 + 2 = 11 ( r )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 sau : 5 + 4 + 2 =11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9 + 5 + 11 = 25 ( m + n + r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1916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3141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72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57200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57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1200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48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1200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012000" y="2924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65964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659640" y="2421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5080" y="177336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17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472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2781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020000" y="4508640"/>
            <a:ext cx="1724040" cy="16207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2400" spc="-1" strike="noStrike">
                <a:solidFill>
                  <a:srgbClr val="0066ff"/>
                </a:solidFill>
                <a:latin typeface="Arial"/>
              </a:rPr>
              <a:t>Ionel deschide o carte de poveşti. Suma  numerelor celor două pagini este 21.Ce număr are pagina din partea dreaptă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= 21          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1                 b                  1     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21 – 1 = 20 ( 2 părţi egale cu a ; 2 x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20 : 2 = 10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0 + 1 = 11 ( b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Vf. 10 + 11 = 21 (a+b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                     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R:  pagina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2781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492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9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328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8800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4360" y="17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1773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7708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588000" y="4221000"/>
            <a:ext cx="2016360" cy="17082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 Suma a trei numere consecutive pare este 18 . Care sunt numere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2      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c = b + 2           b               2               18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, c = ?        c               2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8 – ( 2 + 2 + 2 ) = 12( 3 părţi egale cu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12 : 3 = 4 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4 + 2 = 6 (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6 + 2 = 8  ( c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ro-RO" sz="3200" spc="-1" strike="noStrike">
                <a:solidFill>
                  <a:srgbClr val="cc0099"/>
                </a:solidFill>
                <a:latin typeface="Arial"/>
              </a:rPr>
              <a:t>Vf. 4 + 6 + 8 = 18 ( a + b + c 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38560" y="19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38560" y="2421000"/>
            <a:ext cx="180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40360" y="29242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4036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1773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4036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27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036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184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184464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7080" y="2997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020000" y="4365720"/>
            <a:ext cx="143028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2708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66ff"/>
                </a:solidFill>
                <a:latin typeface="Arial"/>
              </a:rPr>
              <a:t>f)    Suma a trei numere impare consecutive este 21. Află cele trei numer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+ b + c = 21   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b = a + 2             b                  2             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c = b + 2             c                   2  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3399ff"/>
                </a:solidFill>
                <a:latin typeface="Arial"/>
              </a:rPr>
              <a:t>a , b , c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1) 21 – (2 + 2 + 2 ) = 15 (3 părţi egale cu a ; 3 x 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2) 15 : 3 =  5 ( a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2 = 7 ( b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7 + 2 = 9 ( c );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sau :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5 + 2 + 2 = 9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0" lang="ro-RO" sz="2800" spc="-1" strike="noStrike">
                <a:solidFill>
                  <a:srgbClr val="cc0066"/>
                </a:solidFill>
                <a:latin typeface="Arial"/>
              </a:rPr>
              <a:t>Vf.  5 + 7 + 9 = 21 (a+b+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21300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91628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2492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67280" y="3141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67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24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2436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6728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29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96360" y="1844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1844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08720" y="3213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020000" y="4437000"/>
            <a:ext cx="1366920" cy="1741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a)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cc00"/>
                </a:solidFill>
                <a:latin typeface="Arial"/>
              </a:rPr>
              <a:t>Suma a două numere este 15. Primul număr este de 2 ori mai mare decât al doilea . Află numere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+ b = 15         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= 2 x b             a                        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ff00"/>
                </a:solidFill>
                <a:latin typeface="Arial"/>
              </a:rPr>
              <a:t>a , b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p + 2 p = 3( părţi egale cu b ; 3 x 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15 : 3 =  5 (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2 x 5 = 10 ( a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cc6600"/>
                </a:solidFill>
                <a:latin typeface="Arial"/>
              </a:rPr>
              <a:t>Vf. 10 + 5 = 15 ( a + b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198900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256536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19162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844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4036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32720" y="184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43640" y="256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372000" y="1844280"/>
            <a:ext cx="36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43640" y="4149720"/>
            <a:ext cx="1784520" cy="1784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11280" y="2852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8:51:46Z</dcterms:created>
  <dc:creator>Aurora</dc:creator>
  <dc:description/>
  <dc:language>en-US</dc:language>
  <cp:lastModifiedBy>Aurora</cp:lastModifiedBy>
  <dcterms:modified xsi:type="dcterms:W3CDTF">2008-01-04T17:16:23Z</dcterms:modified>
  <cp:revision>6</cp:revision>
  <dc:subject/>
  <dc:title>*REZOLVAREA  PROBLEMELOR PRIN METODA FIGURATIVĂ PRESUPUNE  REALIZAREA UNEI FIGURI  *NUMERELE / MĂRIMILE  PREZENTE  IN  PROBLEMĂ  SE REPREZINTA GRAFIC   *PENTRU  REZOLVARE  TREBUIE SĂ SE AIBĂ ÎN VEDERE OBŢINEREA DE PĂRŢI EGALE </dc:title>
</cp:coreProperties>
</file>